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990-AD46-47EF-8719-72CC2583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291-83EB-4E16-B7BF-F90772A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654-C2F3-4702-8770-3699B1AE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9B1-DB6A-479A-9C03-790A72A5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CB6-DCE0-4BF7-9306-4075593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E96-2277-4C1B-9F6B-35AA2F1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AF1-CEFC-4E29-8353-3054D71C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EC3-E82C-4B77-8A67-511AA54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12D-4202-486A-987E-08DE2A8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626-9922-44BC-818D-5805C84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73D-3D7F-4872-A94B-AAACE294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BFA-1A98-4B2B-9754-C582997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4A6-1B10-4944-AF08-E57C7AA5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 but the Bl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4190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by Robert Low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59436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7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hat can was away my si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hat can make me whole agai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my pardon this I s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my cleansing, this my plea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can for sin atone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aught of good that I have done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ll my hope and pea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ll my righteousn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10T12:17:1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